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014F-BC21-4821-B0D1-E689DCE40259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stimmte Aspekte bleiben unberücksichtigt, Minimalwerte unk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ny Ab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98C-7FF7-4ACC-99C1-74C1C327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47920" y="397476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824-5AB5-451A-82DC-2041B1C6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521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490-713D-497D-9CB4-A95555C1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2444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0096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4792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2444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0096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F59-6A8D-409D-A23A-62A15989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21BB-26B2-4F8E-A917-5F188EC2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F5A0-73EC-4779-A156-9DCA2264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2CEC-2528-4D33-87BC-54686B4D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3FE2-2326-4F41-B707-FCB8562B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997D-08C5-462E-B13C-6C49B548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D3B9-30F7-4056-84FF-49A17C01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99BE-44D4-416B-994A-4D75130D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348-0C54-403A-B129-16AB3389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521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3FEC-70D9-4540-9F03-DF127F78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5349-4D1B-4AA8-A7D6-B941CD0B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47920" y="397476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AB9E-5108-44B5-95C4-A62146A3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521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C21F-D00D-4959-BFE4-1CD63282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2444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0096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4792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02444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0096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EB1F-8FB6-4D1E-8C16-6629F00F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9F4-78F4-4A48-8D52-AD410E3A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5A3-6540-42FE-A17F-D556A49B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804-60BF-4D78-8CB1-CC256EF1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025-84E6-450E-BF22-AB9EBB1D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A05-D9AD-4543-BCCD-6DB1A7F0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521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AEA-5566-4CBB-999D-DC22EB64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88C-6742-48BE-BBC1-AE23BF1D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91120" y="5791320"/>
          <a:ext cx="12189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5791320"/>
                    <a:ext cx="12189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8cf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cfe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799"/>
              </a:spcBef>
              <a:buClr>
                <a:srgbClr val="8cfe0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73520" indent="-2178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73520" indent="-217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73520" indent="-217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rbeitsgruppe Funk-Netzwe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03DD-0028-4604-8E33-E46CAA93915B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8cf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cfe0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3297-EDE1-4CF9-AAF5-29729EFE0E61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rbeitsgruppe Funk-Netzwer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 rot="19800000">
            <a:off x="2133360" y="350496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9800000">
            <a:off x="1921680" y="2746800"/>
            <a:ext cx="4752720" cy="70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PRESCRIBE"/>
              </a:rPr>
              <a:t>Zwischenberi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2F5-928D-48C1-8494-9FCBB8D706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Vielen Dank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CFC-C85A-4683-B2B6-0DBB763545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nlag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653-7F6E-4B7A-97F3-119FDE8442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Handlungsperspektive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.. sind gedacht als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Empfehlungen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esamtkonferen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ullei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achkonferen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C-Bewirtschaftungsausschu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aushaltsausschu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7201080" y="1171440"/>
            <a:ext cx="433080" cy="433440"/>
          </a:xfrm>
          <a:custGeom>
            <a:avLst/>
            <a:gdLst>
              <a:gd name="textAreaLeft" fmla="*/ 28080 w 433080"/>
              <a:gd name="textAreaRight" fmla="*/ 405000 w 433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14A-900A-44FE-A913-DD2DFC87BB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Grenzwerte EMS bei 2,4 GH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2000" y="1905120"/>
          <a:ext cx="7238880" cy="37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905120"/>
                    <a:ext cx="7238880" cy="37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7848720" y="548640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05F-B630-47C9-8703-5731D555AD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lternative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8381880" y="579132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1676520"/>
          <a:ext cx="8593200" cy="40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9320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6C6-775C-4B2A-8267-938A8E74D7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rbeitsgruppe Funk-Netzwer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oachim Bro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tlef Gies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im Han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li Kasta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tefanie Rück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orst Totter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E25-A755-426E-AC5A-B465690610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rbeitsgruppe Funk-Netzwer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ntlastung der Gesamtkonferen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gner und Befürworter von Funk-Netzwerken arbeiten gemeins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lektrosmog-Diskussion aufnehmen und entschärf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formationen recherchieren und bewer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andlungsperspektiven aufzeigen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ITC Zapf Dingbats"/>
                <a:ea typeface="ITC Zapf Dingbats"/>
                <a:hlinkClick r:id="rId1" action="ppaction://hlinksldjump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20574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Motivation, Zi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C65-5016-43D1-BB3C-0E4C58180F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Synony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reless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reless Local Area Networ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abelloses Netz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tenübertragung per Funk im Frequenzbereich 2,4 G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Funk-Netzwerk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app_030_grfx1" descr=""/>
          <p:cNvPicPr/>
          <p:nvPr/>
        </p:nvPicPr>
        <p:blipFill>
          <a:blip r:embed="rId1"/>
          <a:stretch/>
        </p:blipFill>
        <p:spPr>
          <a:xfrm>
            <a:off x="5791320" y="914400"/>
            <a:ext cx="278928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270-CB63-4126-9FB9-DFB96A822D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WLAN an der BBS Win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W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turwissenschaftliche Fachräu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 22 - Physi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 24 - Biolog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 26 - Chem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353-1F77-4670-BBD0-62170B789E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WLAN an der BBS Win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Waru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genüber festen Netzwerkanschlüssen geringerer Installationsaufwand bzw. Kos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LAN war 2002 Voraussetzung zur Bewilligung von Fördergeld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nurloser Betrieb ermöglicht mobile und flexible Nutzung von PCs (Notebooks), keine Stolpergefahr, verschiedene Sitzordnungen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8548-1097-4FFB-B047-BB659F611A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WLAN an der BBS Win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Einwä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lektromagnetische Verträglichkeit ungeklärt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ITC Zapf Dingbats"/>
                <a:ea typeface="ITC Zapf Dingbats"/>
                <a:hlinkClick r:id="rId1" action="ppaction://hlinksldjump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icherheitsmaßnahmen zeitaufwendig, z.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lassen ausgewählter Nutzer bzw. P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schlüsselung der D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genüber festen Netzwerkanschlüssen geringere Bandbreite und Stabilitä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05F-312A-4C05-883D-BF0FC4B8AC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Empfehlu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Kurzfristige Maßnah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eine weitere Ausstattung mit W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ückbau der vorhandenen Access-Points in den Naturwissenschaften auf eine mobile Einhe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schaffung von Messgeräten für verschiedener Frequenzbereiche hochfrequenter Strahl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300-7D52-47C8-910A-DFAE750F67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Empfehlu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Mittelfristige Maßnah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rfassung und Bewertung elektro-magnetischer Strahlungsquellen an der BBS Win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Mögliche Konsequen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rsatz von WLAN durch Festnetz? </a:t>
            </a:r>
            <a:r>
              <a:rPr b="0" lang="de-DE" sz="3200" spc="-1" strike="noStrike" u="sng">
                <a:solidFill>
                  <a:srgbClr val="33ccff"/>
                </a:solidFill>
                <a:uFillTx/>
                <a:latin typeface="ITC Zapf Dingbats"/>
                <a:ea typeface="ITC Zapf Dingbats"/>
                <a:hlinkClick r:id="rId1" action="ppaction://hlinksldjump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bot von Handys und Funktelefon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2B3-4A60-43FD-8774-2459D9630D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3:55:57Z</dcterms:created>
  <dc:creator>a</dc:creator>
  <dc:description/>
  <dc:language>en-US</dc:language>
  <cp:lastModifiedBy>a</cp:lastModifiedBy>
  <dcterms:modified xsi:type="dcterms:W3CDTF">2007-02-01T08:32:27Z</dcterms:modified>
  <cp:revision>38</cp:revision>
  <dc:subject/>
  <dc:title>WLAN an der BBS Winsen</dc:title>
</cp:coreProperties>
</file>